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B145-6ECE-4DEB-83CA-A92CDB437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F85C-A926-4F47-9867-E0A311CA489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699C-41D3-4B5E-A146-96F90439A1E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3693-2333-4F9F-8B4D-00B669CE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A60-3D27-493C-98C1-97867709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F3B-65D4-4F6B-8657-7718255E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34CF-A969-43A5-AAD8-F72142ED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4AE2-60DA-4051-994F-E19754F8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2021-3BE0-491B-A83A-773907A5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240A-C411-42EA-A55E-85D878A2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A6C5-4334-4964-A161-EF103008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12FA-E974-4080-BC63-9826A895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795A-74A2-4ECF-80DB-096CB80A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8EC7-BAA8-454C-B517-43E904CB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782-0BF6-4F4E-B7C5-C62F06DB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2308-790B-430C-BA09-CAAA4F49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695E-D842-49EA-B569-932BBDDC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FE26-FE00-45D0-81B7-18C69373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5E0D-0540-4666-9078-901FCC00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9123-E252-4699-8EFC-1373F070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4C0B0-6A2B-443A-8076-3C8EB57D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06334-471D-4258-960F-097874FF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AD65A-6E20-4239-A0F1-9EEF5C15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B01D4-D23C-46D3-BD3B-3637286D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8E6F9-8523-4B5B-8FDB-06D19A04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02EE-887E-4B7A-90BB-D69FFD34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2E5C0-A486-4D5A-90D2-D1688B3C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54ED9-8B3F-43F7-908A-642BAECD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1DBD0-2698-46FB-8FD3-D2EE9686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30BE8-24EE-4332-94CD-1E1DFCF6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87388-08A6-4CF6-AAF4-DEE17041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99320-7CF0-4558-8E89-58FDC541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0656E-E6F3-492F-BE33-3A3B13B5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41EF-7627-4EB1-A402-46E4F5AB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2E5-4D48-4649-AE9C-69A8284C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A45-2F28-421A-9D06-2B0FB63E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935-C346-4734-BD7E-D1DC37C9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C9AF-8F33-4B87-AAFC-B636CEB8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9E8-647B-4BFB-85E2-90D91FF5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4DA7-4876-432A-B9FE-7CE3C4061DE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28AB-B27B-4049-A95D-C7051C7AB9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011D-79BD-4C4B-91C9-6171E13187E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ugenevdebs.com/media/pdeb2l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Industrial Revol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he Organized Labor Mov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0" y="685800"/>
            <a:ext cx="9144000" cy="67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  <a:ea typeface="Arial"/>
              </a:rPr>
              <a:t>Economic system based on cooperation rather than competition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0066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Many Americans opposed capitalism and believed a 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socialistic economy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would better suit the US because some capitalists were corrupt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0066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Believes in </a:t>
            </a:r>
            <a:r>
              <a:rPr b="1" lang="en-US" sz="3600" spc="-1" strike="noStrike" u="sng">
                <a:solidFill>
                  <a:srgbClr val="005a58"/>
                </a:solidFill>
                <a:uFillTx/>
                <a:latin typeface="Times New Roman"/>
                <a:ea typeface="Arial"/>
              </a:rPr>
              <a:t>government ownershi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of business and capital (money, natural resources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0066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Government controls production, sets wages, prices and distributes the goods.  No profit or competition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0066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Opposite of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Arial"/>
              </a:rPr>
              <a:t>laissez fai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and 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capitalis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WordArt 3"/>
          <p:cNvSpPr txBox="1"/>
          <p:nvPr/>
        </p:nvSpPr>
        <p:spPr>
          <a:xfrm>
            <a:off x="380880" y="76320"/>
            <a:ext cx="8305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Impact"/>
              </a:rPr>
              <a:t>SOCIALISM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AutoShape 4">
            <a:hlinkClick r:id="rId1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2"/>
          <p:cNvSpPr txBox="1"/>
          <p:nvPr/>
        </p:nvSpPr>
        <p:spPr>
          <a:xfrm>
            <a:off x="380880" y="76320"/>
            <a:ext cx="8229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LABOR UNIONS</a:t>
            </a:r>
            <a:endParaRPr b="0" lang="en-US" sz="24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0" y="83808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1752480" y="48006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0" y="12952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76320" y="762120"/>
            <a:ext cx="2819160" cy="5577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3366"/>
                </a:solidFill>
                <a:uFillTx/>
                <a:latin typeface="Arial Black"/>
              </a:rPr>
              <a:t>National Labor Un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William Sylvis, 186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Skilled, unskilled, farmers but excluded Chinese…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 Black"/>
              </a:rPr>
              <a:t>Cooperatives</a:t>
            </a: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, 8 hr. work day, against labor strik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Founded a political party in 187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Involved in the </a:t>
            </a: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 Black"/>
              </a:rPr>
              <a:t>Chinese Exclusion Act</a:t>
            </a:r>
            <a:r>
              <a:rPr b="0" i="1" lang="en-US" sz="1800" spc="-1" strike="noStrike">
                <a:solidFill>
                  <a:srgbClr val="003366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Lost election, faded awa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Replaced by Knights of Labor.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2971800" y="762120"/>
            <a:ext cx="3124080" cy="526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3366"/>
                </a:solidFill>
                <a:uFillTx/>
                <a:latin typeface="Arial Black"/>
              </a:rPr>
              <a:t>Knights of Labo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Terrence Powderl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All workers except Chine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8 hr. day, cooperatives, prohibition, end child labo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Several strikes won some wage gains 1885 to 188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Unrealistic and vague goals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Loss of important strikes and failure of cooperativ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Haymarket Riot—188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6172200" y="762120"/>
            <a:ext cx="2895480" cy="6098400"/>
          </a:xfrm>
          <a:prstGeom prst="rect">
            <a:avLst/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 Black"/>
              </a:rPr>
              <a:t>American Federation of Labor or AF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Samuel Gompers, 188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Skilled workers in separate union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Work within political system for change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 Black"/>
              </a:rPr>
              <a:t>Closed shop</a:t>
            </a: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 and </a:t>
            </a: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 Black"/>
              </a:rPr>
              <a:t>collective bargain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Over 1 million workers joined and won several strik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Small part of work force eligible to joi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AutoShape 9">
            <a:hlinkClick r:id="rId1" action="ppaction://hlinksldjump"/>
          </p:cNvPr>
          <p:cNvSpPr/>
          <p:nvPr/>
        </p:nvSpPr>
        <p:spPr>
          <a:xfrm>
            <a:off x="8610480" y="6400800"/>
            <a:ext cx="304920" cy="30492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Railroad Workers Organiz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428640" y="1142640"/>
            <a:ext cx="57150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40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The Great Railroad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Strike of 18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ctr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ailway workers protested unfair wage cuts and unsafe working condi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ctr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trike was violent and unorganiz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ctr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sident Hayes sent federal troops to put down the strik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 algn="ctr">
              <a:lnSpc>
                <a:spcPct val="8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 algn="ctr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10" descr="pdeb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219320"/>
            <a:ext cx="3657600" cy="4190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89" name="Text Box 13"/>
          <p:cNvSpPr/>
          <p:nvPr/>
        </p:nvSpPr>
        <p:spPr>
          <a:xfrm>
            <a:off x="0" y="5562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Georg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From then on, employers relied on federal and state troops to repress labor unres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1"/>
          <p:cNvSpPr/>
          <p:nvPr/>
        </p:nvSpPr>
        <p:spPr>
          <a:xfrm>
            <a:off x="3657600" y="1066680"/>
            <a:ext cx="548640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400"/>
              </a:spcBef>
              <a:buClr>
                <a:srgbClr val="a50021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  <a:ea typeface="Times New Roman"/>
              </a:rPr>
              <a:t>Debs and the American Railway Un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At the time of the 1877 strike, railroad workers mainly organized into various “brotherhoods,” which were basically craft union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Eugene V. Debs proposed a new industrial union for all railway workers called the American Railway Union (A.R.U.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The A.R.U. would replace all of the brotherhoods and unite all railroad workers, skilled and unskille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0" y="-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Railroad Workers Organiz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AutoShape 15">
            <a:hlinkClick r:id="rId1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prstGeom prst="irregularSeal2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3" name="Object 2"/>
          <p:cNvGraphicFramePr/>
          <p:nvPr/>
        </p:nvGraphicFramePr>
        <p:xfrm>
          <a:off x="533520" y="1219320"/>
          <a:ext cx="306864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19320"/>
                    <a:ext cx="3068640" cy="4572000"/>
                  </a:xfrm>
                  <a:prstGeom prst="rect">
                    <a:avLst/>
                  </a:prstGeom>
                  <a:ln cap="sq"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labor strkes"/>
          <p:cNvPicPr/>
          <p:nvPr/>
        </p:nvPicPr>
        <p:blipFill>
          <a:blip r:embed="rId1"/>
          <a:stretch/>
        </p:blipFill>
        <p:spPr>
          <a:xfrm>
            <a:off x="609480" y="380880"/>
            <a:ext cx="8001000" cy="595152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3"/>
          <p:cNvSpPr/>
          <p:nvPr/>
        </p:nvSpPr>
        <p:spPr>
          <a:xfrm>
            <a:off x="8458200" y="6400800"/>
            <a:ext cx="380880" cy="38088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rr strikes in 1877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63904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3"/>
          <p:cNvSpPr/>
          <p:nvPr/>
        </p:nvSpPr>
        <p:spPr>
          <a:xfrm>
            <a:off x="8610480" y="6324480"/>
            <a:ext cx="381240" cy="381240"/>
          </a:xfrm>
          <a:prstGeom prst="irregularSeal2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54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2197080" y="587520"/>
            <a:ext cx="29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3510000" y="1044720"/>
            <a:ext cx="29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4800600" y="609480"/>
            <a:ext cx="434340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May 3, 1886, joining a nation wide strike for an 8 work day Chicago workers protested against the McCormick Reaper plan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 Narrow"/>
              </a:rPr>
              <a:t>A riot broke out and Chicago police officers killed several protest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To protest the killing, protesters planned a rally for May 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WordArt 6"/>
          <p:cNvSpPr txBox="1"/>
          <p:nvPr/>
        </p:nvSpPr>
        <p:spPr>
          <a:xfrm>
            <a:off x="380880" y="76320"/>
            <a:ext cx="8229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25560" dir="10800000" blurRad="0" rotWithShape="0">
                    <a:srgbClr val="000000"/>
                  </a:outerShdw>
                </a:effectLst>
                <a:latin typeface="Impact"/>
              </a:rPr>
              <a:t>HAYMARKET RIOT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25560" dir="108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0" y="4618080"/>
            <a:ext cx="9144000" cy="28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 Narrow"/>
              </a:rPr>
              <a:t>3,000 gather at Chicago’s Haymarket Squa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During the protest, a bomb exploded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 Narrow"/>
              </a:rPr>
              <a:t>7 police officers were killed and civilians killed and injured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Chicago police hunt down murder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 Narrow"/>
              </a:rPr>
              <a:t>8 </a:t>
            </a:r>
            <a:r>
              <a:rPr b="1" lang="en-US" sz="2800" spc="-1" strike="noStrike">
                <a:solidFill>
                  <a:srgbClr val="0000cc"/>
                </a:solidFill>
                <a:latin typeface="Arial Narrow"/>
              </a:rPr>
              <a:t>anarchists were convicted of conspiracy to murd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Picture 8" descr="splash5_08"/>
          <p:cNvPicPr/>
          <p:nvPr/>
        </p:nvPicPr>
        <p:blipFill>
          <a:blip r:embed="rId2"/>
          <a:srcRect l="0" t="0" r="0" b="10512"/>
          <a:stretch/>
        </p:blipFill>
        <p:spPr>
          <a:xfrm>
            <a:off x="152280" y="762120"/>
            <a:ext cx="4572000" cy="3460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6" name="Picture 9" descr="pe5"/>
          <p:cNvPicPr/>
          <p:nvPr/>
        </p:nvPicPr>
        <p:blipFill>
          <a:blip r:embed="rId3"/>
          <a:srcRect l="0" t="0" r="0" b="48749"/>
          <a:stretch/>
        </p:blipFill>
        <p:spPr>
          <a:xfrm>
            <a:off x="152280" y="762120"/>
            <a:ext cx="4572000" cy="3504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" descr="v013b"/>
          <p:cNvPicPr/>
          <p:nvPr/>
        </p:nvPicPr>
        <p:blipFill>
          <a:blip r:embed="rId4"/>
          <a:stretch/>
        </p:blipFill>
        <p:spPr>
          <a:xfrm>
            <a:off x="152280" y="685800"/>
            <a:ext cx="4648320" cy="3592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0" y="1143000"/>
            <a:ext cx="9144000" cy="54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  <a:ea typeface="Times New Roman"/>
              </a:rPr>
              <a:t>4 were hung and 1 committed suicid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  <a:ea typeface="Times New Roman"/>
              </a:rPr>
              <a:t>This caused the public to look down on labor unions especially the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Georgia"/>
                <a:ea typeface="Times New Roman"/>
              </a:rPr>
              <a:t>Knights of Labo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  <a:ea typeface="Times New Roman"/>
              </a:rPr>
              <a:t>Gov. Altgeld of Illinois later issued pardons for the remaining accused anarchist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buClr>
                <a:srgbClr val="a500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0" y="54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AutoShape 4"/>
          <p:cNvSpPr/>
          <p:nvPr/>
        </p:nvSpPr>
        <p:spPr>
          <a:xfrm>
            <a:off x="2197080" y="587520"/>
            <a:ext cx="29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1" name="Picture 5" descr="space"/>
          <p:cNvPicPr/>
          <p:nvPr/>
        </p:nvPicPr>
        <p:blipFill>
          <a:blip r:embed="rId1"/>
          <a:stretch/>
        </p:blipFill>
        <p:spPr>
          <a:xfrm>
            <a:off x="2306520" y="1044720"/>
            <a:ext cx="365400" cy="365040"/>
          </a:xfrm>
          <a:prstGeom prst="rect">
            <a:avLst/>
          </a:prstGeom>
          <a:ln w="0">
            <a:noFill/>
          </a:ln>
        </p:spPr>
      </p:pic>
      <p:sp>
        <p:nvSpPr>
          <p:cNvPr id="312" name="WordArt 6"/>
          <p:cNvSpPr txBox="1"/>
          <p:nvPr/>
        </p:nvSpPr>
        <p:spPr>
          <a:xfrm>
            <a:off x="609480" y="152280"/>
            <a:ext cx="8001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25560" dir="10800000" blurRad="0" rotWithShape="0">
                    <a:srgbClr val="000000"/>
                  </a:outerShdw>
                </a:effectLst>
                <a:latin typeface="Impact"/>
              </a:rPr>
              <a:t>HAYMARKET RIOT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25560" dir="108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Haymarket Five"/>
          <p:cNvPicPr/>
          <p:nvPr/>
        </p:nvPicPr>
        <p:blipFill>
          <a:blip r:embed="rId1"/>
          <a:stretch/>
        </p:blipFill>
        <p:spPr>
          <a:xfrm>
            <a:off x="228600" y="685800"/>
            <a:ext cx="4724280" cy="601992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3"/>
          <p:cNvGrpSpPr/>
          <p:nvPr/>
        </p:nvGrpSpPr>
        <p:grpSpPr>
          <a:xfrm>
            <a:off x="4937040" y="884160"/>
            <a:ext cx="3826080" cy="5457960"/>
            <a:chOff x="4937040" y="884160"/>
            <a:chExt cx="3826080" cy="5457960"/>
          </a:xfrm>
        </p:grpSpPr>
        <p:sp>
          <p:nvSpPr>
            <p:cNvPr id="315" name="Rectangle 4"/>
            <p:cNvSpPr/>
            <p:nvPr/>
          </p:nvSpPr>
          <p:spPr>
            <a:xfrm>
              <a:off x="4937040" y="884160"/>
              <a:ext cx="2691720" cy="35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4937040" y="884160"/>
              <a:ext cx="3826080" cy="545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 </a:t>
              </a: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7" name="Rectangle 6"/>
          <p:cNvSpPr/>
          <p:nvPr/>
        </p:nvSpPr>
        <p:spPr>
          <a:xfrm>
            <a:off x="5029200" y="1143000"/>
            <a:ext cx="411480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80000"/>
              </a:lnSpc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  <a:ea typeface="Times New Roman"/>
              </a:rPr>
              <a:t>The five men are clockwise from 1:00 o'clock: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38840"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. R. Parson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38840"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dolph Fisch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38840"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George Eng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38840"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ugust Spi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38840"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ouis Lingg (middle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38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he first four were hanged on Friday, November 11, 1887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ingg committed suicide on November 10, 1887 by lighting a stick of dynamite in his mouth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WordArt 7"/>
          <p:cNvSpPr txBox="1"/>
          <p:nvPr/>
        </p:nvSpPr>
        <p:spPr>
          <a:xfrm>
            <a:off x="380880" y="152280"/>
            <a:ext cx="84582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25560" dir="10800000" blurRad="0" rotWithShape="0">
                    <a:srgbClr val="ffffff"/>
                  </a:outerShdw>
                </a:effectLst>
                <a:latin typeface="Impact"/>
              </a:rPr>
              <a:t>HAYMARKET RIOT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25560" dir="10800000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homestead"/>
          <p:cNvPicPr/>
          <p:nvPr/>
        </p:nvPicPr>
        <p:blipFill>
          <a:blip r:embed="rId2"/>
          <a:stretch/>
        </p:blipFill>
        <p:spPr>
          <a:xfrm>
            <a:off x="152280" y="838080"/>
            <a:ext cx="4343400" cy="3257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20" name="WordArt 3"/>
          <p:cNvSpPr txBox="1"/>
          <p:nvPr/>
        </p:nvSpPr>
        <p:spPr>
          <a:xfrm>
            <a:off x="304920" y="76320"/>
            <a:ext cx="8610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63360" dir="10800000" blurRad="0" rotWithShape="0">
                    <a:srgbClr val="000000"/>
                  </a:outerShdw>
                </a:effectLst>
                <a:latin typeface="Impact"/>
              </a:rPr>
              <a:t>HOMESTEAD STRIKE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63360" dir="108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572000" y="762120"/>
            <a:ext cx="457200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  <a:ea typeface="Times New Roman"/>
              </a:rPr>
              <a:t>1892, Carnegie Steel workers strike over pay cu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Management locks out workers and hires scab worke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  <a:ea typeface="Times New Roman"/>
              </a:rPr>
              <a:t>Violence erupted between strikers and scab worke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Pinkerton Security called in to settle viol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0" y="4495680"/>
            <a:ext cx="9144000" cy="31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  <a:ea typeface="Times New Roman"/>
              </a:rPr>
              <a:t>Strikers ambush them and forced Pinkerton’s to walk the gauntlet between striking famili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Narrow"/>
                <a:ea typeface="Times New Roman"/>
              </a:rPr>
              <a:t>Some killed and many injur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  <a:ea typeface="Times New Roman"/>
              </a:rPr>
              <a:t>National Guard was called in by the governor of Pennsylvania to stop violence and reopen pla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366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685800" y="662940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f497d"/>
                </a:solidFill>
                <a:latin typeface="Arial"/>
                <a:ea typeface="Times New Roman"/>
              </a:rPr>
              <a:t>Picture: Workers vs Owner</a:t>
            </a:r>
            <a:endParaRPr b="0" lang="en-US" sz="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52280" y="1447920"/>
            <a:ext cx="876312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Times New Roman"/>
              </a:rPr>
              <a:t>Poor working condi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Times New Roman"/>
              </a:rPr>
              <a:t>Unfriendliness/impersonaliz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Times New Roman"/>
              </a:rPr>
              <a:t>Immigrants taking job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Times New Roman"/>
              </a:rPr>
              <a:t>Decrease work day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Times New Roman"/>
              </a:rPr>
              <a:t>Machines replacing worker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Times New Roman"/>
              </a:rPr>
              <a:t>Child labo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buClr>
                <a:srgbClr val="0000ff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Times New Roman"/>
              </a:rPr>
              <a:t>Job security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Industr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2"/>
          <p:cNvSpPr txBox="1"/>
          <p:nvPr/>
        </p:nvSpPr>
        <p:spPr>
          <a:xfrm>
            <a:off x="304920" y="76320"/>
            <a:ext cx="8610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8900000"/>
                </a:gradFill>
                <a:effectLst>
                  <a:outerShdw dist="25560" dir="10800000" blurRad="0" rotWithShape="0">
                    <a:srgbClr val="000000"/>
                  </a:outerShdw>
                </a:effectLst>
                <a:latin typeface="Impact"/>
              </a:rPr>
              <a:t>HOMESTEAD STRIKE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8900000"/>
              </a:gradFill>
              <a:effectLst>
                <a:outerShdw dist="25560" dir="108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6320" y="990720"/>
            <a:ext cx="891540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arnegie successfully broke up the attempt to organize a union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No labor unions in steel industry until the 1920’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arnegie would be remembered for events at Homestead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buClr>
                <a:srgbClr val="99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00"/>
                </a:solidFill>
                <a:latin typeface="Arial Black"/>
              </a:rPr>
              <a:t>His public image suffered</a:t>
            </a: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AutoShape 4"/>
          <p:cNvSpPr/>
          <p:nvPr/>
        </p:nvSpPr>
        <p:spPr>
          <a:xfrm>
            <a:off x="8610480" y="6172200"/>
            <a:ext cx="381240" cy="380880"/>
          </a:xfrm>
          <a:prstGeom prst="irregularSeal2">
            <a:avLst/>
          </a:prstGeom>
          <a:solidFill>
            <a:srgbClr val="000000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ullman Strike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1219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cc"/>
                </a:solidFill>
                <a:latin typeface="Georgia"/>
              </a:rPr>
              <a:t>Pullman, 1894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ugene Debs instructed strikers not to interfere with the n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 mai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ailway owners turned to the government for help. The judge cited the Sherman Antitrust Act and won a court order forbidding all union activity that halted railroad traffi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urt orders against unions continued, limiting union gains for the next 30 yea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8610480" y="6172200"/>
            <a:ext cx="381240" cy="380880"/>
          </a:xfrm>
          <a:prstGeom prst="irregularSeal2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action of Employer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10666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Employers hated &amp; feared unions. 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uropean influences of social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abor strikes always tended to be viol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ome took steps to stop unions, such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buClr>
                <a:srgbClr val="0066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bidding union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buClr>
                <a:srgbClr val="0066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ring union organiz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buClr>
                <a:srgbClr val="0066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cing new employees to sig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yellow d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contracts, making them promise never to join a union or participate in a str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buClr>
                <a:srgbClr val="0066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fusing to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bargain collectivel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when strikes did occ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buClr>
                <a:srgbClr val="0066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fusing to recognize unions as their work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legitimate represent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ffects of the Labor Mov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ions were not always granted as legally protected organizations  and gains were limited for more than 30 yea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bs became socialist and formed the American Socialist Party and the Industrial Workers of the World (IWW) a radical union group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8">
            <a:hlinkClick r:id="rId1" action="ppaction://hlinksldjump"/>
          </p:cNvPr>
          <p:cNvSpPr/>
          <p:nvPr/>
        </p:nvSpPr>
        <p:spPr>
          <a:xfrm>
            <a:off x="8686800" y="6477120"/>
            <a:ext cx="304920" cy="3045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0" y="914400"/>
            <a:ext cx="426708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Impact"/>
                <a:ea typeface="Times New Roman"/>
              </a:rPr>
              <a:t>Division of Lab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 algn="ctr">
              <a:lnSpc>
                <a:spcPct val="85000"/>
              </a:lnSpc>
              <a:spcBef>
                <a:spcPts val="1500"/>
              </a:spcBef>
              <a:buClr>
                <a:srgbClr val="0066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Some owners viewed workers as parts of the machinery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 algn="ctr">
              <a:lnSpc>
                <a:spcPct val="85000"/>
              </a:lnSpc>
              <a:spcBef>
                <a:spcPts val="1500"/>
              </a:spcBef>
              <a:buClr>
                <a:srgbClr val="0066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Unlike smaller and older businesses, most owners never interacted with worker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 algn="ctr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Georgia"/>
                <a:ea typeface="Times New Roman"/>
              </a:rPr>
              <a:t>impersonaliz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4343400" y="914400"/>
            <a:ext cx="4800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7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Impact"/>
                <a:ea typeface="Times New Roman"/>
              </a:rPr>
              <a:t>Work Environ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 algn="ctr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Factory workers worked by the clock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 algn="ctr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Workers could be fired for being late, talking, or refusing to do a task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 algn="ctr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Workplaces were not safe. </a:t>
            </a:r>
            <a:r>
              <a:rPr b="0" lang="en-US" sz="2400" spc="-1" strike="noStrike">
                <a:solidFill>
                  <a:srgbClr val="c0504d"/>
                </a:solidFill>
                <a:latin typeface="Georgia"/>
                <a:ea typeface="Times New Roman"/>
              </a:rPr>
              <a:t>(Sweatshop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 algn="ctr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Children performed unsafe work and worked in dangerously unhealthy condition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 algn="ctr">
              <a:lnSpc>
                <a:spcPct val="80000"/>
              </a:lnSpc>
              <a:spcBef>
                <a:spcPts val="751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In the 1890s and early 1900s states began legislating child labor</a:t>
            </a:r>
            <a:r>
              <a:rPr b="0" lang="en-US" sz="2000" spc="-1" strike="noStrike">
                <a:solidFill>
                  <a:srgbClr val="003366"/>
                </a:solidFill>
                <a:latin typeface="Georgia"/>
                <a:ea typeface="Times New Roman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 algn="ctr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Workers were paid low wag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 algn="ctr">
              <a:lnSpc>
                <a:spcPct val="80000"/>
              </a:lnSpc>
              <a:spcBef>
                <a:spcPts val="901"/>
              </a:spcBef>
              <a:buClr>
                <a:srgbClr val="0066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4267080" y="1295280"/>
            <a:ext cx="0" cy="5334120"/>
          </a:xfrm>
          <a:prstGeom prst="line">
            <a:avLst/>
          </a:prstGeom>
          <a:ln cap="sq"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4343400" y="1295280"/>
            <a:ext cx="0" cy="5334120"/>
          </a:xfrm>
          <a:prstGeom prst="line">
            <a:avLst/>
          </a:prstGeom>
          <a:ln cap="sq"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WordArt 14"/>
          <p:cNvSpPr txBox="1"/>
          <p:nvPr/>
        </p:nvSpPr>
        <p:spPr>
          <a:xfrm>
            <a:off x="457200" y="152280"/>
            <a:ext cx="8305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cc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Impact"/>
              </a:rPr>
              <a:t>Factory Work</a:t>
            </a:r>
            <a:endParaRPr b="0" lang="en-US" sz="2400" spc="1" strike="noStrike">
              <a:ln cap="sq" w="12600">
                <a:solidFill>
                  <a:srgbClr val="cc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0" y="1066680"/>
            <a:ext cx="4648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 the 1880s, children made up more tha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5 percent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of the industrial labor for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hildren often left school at the age of 12 or 13 to 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irls sometimes took factory jobs so that their brothers could stay in scho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f an adult became too ill to work, children as young as 6 or 7 had to 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724280" y="1143000"/>
            <a:ext cx="441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arely did the government provide public assistance, and unemployment insurance did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 exis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theory of Social Darwinism held that poverty resulted from personal weakness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ny thought that offering relief to the unemployed would encourage idlenes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457200" y="228600"/>
            <a:ext cx="8305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cc0000"/>
                  </a:solidFill>
                  <a:miter/>
                </a:ln>
                <a:solidFill>
                  <a:srgbClr val="33ccff"/>
                </a:solidFill>
                <a:effectLst>
                  <a:outerShdw dist="53966" dir="2700000" blurRad="0" rotWithShape="0">
                    <a:srgbClr val="000000"/>
                  </a:outerShdw>
                </a:effectLst>
                <a:latin typeface="Impact"/>
              </a:rPr>
              <a:t>WORKING FAMILIES</a:t>
            </a:r>
            <a:endParaRPr b="0" lang="en-US" sz="2400" spc="1" strike="noStrike">
              <a:ln cap="sq" w="12600">
                <a:solidFill>
                  <a:srgbClr val="cc0000"/>
                </a:solidFill>
                <a:miter/>
              </a:ln>
              <a:solidFill>
                <a:srgbClr val="33ccff"/>
              </a:solidFill>
              <a:effectLst>
                <a:outerShdw dist="53966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any Tow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mpany Towns-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using communities owned by the business and rented out to employe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ployer controlled the “company store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gregation was also prevalent in company tow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arly Labor Protes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llective Bargaining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gotiating as a group for higher wages or better working condit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ikes were used early 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ional Trades Union founded in 1834=  first national labor un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162" name="Group 3"/>
            <p:cNvGrpSpPr/>
            <p:nvPr/>
          </p:nvGrpSpPr>
          <p:grpSpPr>
            <a:xfrm>
              <a:off x="10800" y="6120"/>
              <a:ext cx="9119880" cy="6844320"/>
              <a:chOff x="10800" y="6120"/>
              <a:chExt cx="9119880" cy="6844320"/>
            </a:xfrm>
          </p:grpSpPr>
          <p:grpSp>
            <p:nvGrpSpPr>
              <p:cNvPr id="163" name="Group 4"/>
              <p:cNvGrpSpPr/>
              <p:nvPr/>
            </p:nvGrpSpPr>
            <p:grpSpPr>
              <a:xfrm>
                <a:off x="10800" y="6120"/>
                <a:ext cx="9119880" cy="836640"/>
                <a:chOff x="10800" y="6120"/>
                <a:chExt cx="9119880" cy="836640"/>
              </a:xfrm>
            </p:grpSpPr>
            <p:sp>
              <p:nvSpPr>
                <p:cNvPr id="164" name="Rectangle 5"/>
                <p:cNvSpPr/>
                <p:nvPr/>
              </p:nvSpPr>
              <p:spPr>
                <a:xfrm>
                  <a:off x="32760" y="18360"/>
                  <a:ext cx="9075960" cy="81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6"/>
                <p:cNvSpPr/>
                <p:nvPr/>
              </p:nvSpPr>
              <p:spPr>
                <a:xfrm>
                  <a:off x="10800" y="6120"/>
                  <a:ext cx="9119880" cy="83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7"/>
              <p:cNvGrpSpPr/>
              <p:nvPr/>
            </p:nvGrpSpPr>
            <p:grpSpPr>
              <a:xfrm>
                <a:off x="10800" y="868320"/>
                <a:ext cx="2863080" cy="1056600"/>
                <a:chOff x="10800" y="868320"/>
                <a:chExt cx="2863080" cy="1056600"/>
              </a:xfrm>
            </p:grpSpPr>
            <p:sp>
              <p:nvSpPr>
                <p:cNvPr id="167" name="Rectangle 8"/>
                <p:cNvSpPr/>
                <p:nvPr/>
              </p:nvSpPr>
              <p:spPr>
                <a:xfrm>
                  <a:off x="32760" y="880920"/>
                  <a:ext cx="2818440" cy="103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9"/>
                <p:cNvSpPr/>
                <p:nvPr/>
              </p:nvSpPr>
              <p:spPr>
                <a:xfrm>
                  <a:off x="10800" y="868320"/>
                  <a:ext cx="2863080" cy="105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Group 10"/>
              <p:cNvGrpSpPr/>
              <p:nvPr/>
            </p:nvGrpSpPr>
            <p:grpSpPr>
              <a:xfrm>
                <a:off x="2874600" y="868320"/>
                <a:ext cx="6255720" cy="1056600"/>
                <a:chOff x="2874600" y="868320"/>
                <a:chExt cx="6255720" cy="1056600"/>
              </a:xfrm>
            </p:grpSpPr>
            <p:sp>
              <p:nvSpPr>
                <p:cNvPr id="170" name="Rectangle 11"/>
                <p:cNvSpPr/>
                <p:nvPr/>
              </p:nvSpPr>
              <p:spPr>
                <a:xfrm>
                  <a:off x="2896560" y="880920"/>
                  <a:ext cx="6211800" cy="103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12"/>
                <p:cNvSpPr/>
                <p:nvPr/>
              </p:nvSpPr>
              <p:spPr>
                <a:xfrm>
                  <a:off x="2874600" y="868320"/>
                  <a:ext cx="6255720" cy="105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13"/>
              <p:cNvGrpSpPr/>
              <p:nvPr/>
            </p:nvGrpSpPr>
            <p:grpSpPr>
              <a:xfrm>
                <a:off x="10800" y="1949760"/>
                <a:ext cx="2863080" cy="1536480"/>
                <a:chOff x="10800" y="1949760"/>
                <a:chExt cx="2863080" cy="1536480"/>
              </a:xfrm>
            </p:grpSpPr>
            <p:sp>
              <p:nvSpPr>
                <p:cNvPr id="173" name="Rectangle 14"/>
                <p:cNvSpPr/>
                <p:nvPr/>
              </p:nvSpPr>
              <p:spPr>
                <a:xfrm>
                  <a:off x="32760" y="1962360"/>
                  <a:ext cx="2818440" cy="151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Rectangle 15"/>
                <p:cNvSpPr/>
                <p:nvPr/>
              </p:nvSpPr>
              <p:spPr>
                <a:xfrm>
                  <a:off x="10800" y="1949760"/>
                  <a:ext cx="2863080" cy="153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Group 16"/>
              <p:cNvGrpSpPr/>
              <p:nvPr/>
            </p:nvGrpSpPr>
            <p:grpSpPr>
              <a:xfrm>
                <a:off x="2874600" y="1949760"/>
                <a:ext cx="6255720" cy="1536480"/>
                <a:chOff x="2874600" y="1949760"/>
                <a:chExt cx="6255720" cy="1536480"/>
              </a:xfrm>
            </p:grpSpPr>
            <p:sp>
              <p:nvSpPr>
                <p:cNvPr id="176" name="Rectangle 17"/>
                <p:cNvSpPr/>
                <p:nvPr/>
              </p:nvSpPr>
              <p:spPr>
                <a:xfrm>
                  <a:off x="2896560" y="1962360"/>
                  <a:ext cx="6211800" cy="151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Rectangle 18"/>
                <p:cNvSpPr/>
                <p:nvPr/>
              </p:nvSpPr>
              <p:spPr>
                <a:xfrm>
                  <a:off x="2874600" y="1949760"/>
                  <a:ext cx="6255720" cy="153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Group 19"/>
              <p:cNvGrpSpPr/>
              <p:nvPr/>
            </p:nvGrpSpPr>
            <p:grpSpPr>
              <a:xfrm>
                <a:off x="10800" y="3512160"/>
                <a:ext cx="2863080" cy="1536120"/>
                <a:chOff x="10800" y="3512160"/>
                <a:chExt cx="2863080" cy="1536120"/>
              </a:xfrm>
            </p:grpSpPr>
            <p:sp>
              <p:nvSpPr>
                <p:cNvPr id="179" name="Rectangle 20"/>
                <p:cNvSpPr/>
                <p:nvPr/>
              </p:nvSpPr>
              <p:spPr>
                <a:xfrm>
                  <a:off x="32760" y="3524400"/>
                  <a:ext cx="2818440" cy="15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21"/>
                <p:cNvSpPr/>
                <p:nvPr/>
              </p:nvSpPr>
              <p:spPr>
                <a:xfrm>
                  <a:off x="10800" y="3512160"/>
                  <a:ext cx="2863080" cy="153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Group 22"/>
              <p:cNvGrpSpPr/>
              <p:nvPr/>
            </p:nvGrpSpPr>
            <p:grpSpPr>
              <a:xfrm>
                <a:off x="2874600" y="3512160"/>
                <a:ext cx="6255720" cy="1536120"/>
                <a:chOff x="2874600" y="3512160"/>
                <a:chExt cx="6255720" cy="1536120"/>
              </a:xfrm>
            </p:grpSpPr>
            <p:sp>
              <p:nvSpPr>
                <p:cNvPr id="182" name="Rectangle 23"/>
                <p:cNvSpPr/>
                <p:nvPr/>
              </p:nvSpPr>
              <p:spPr>
                <a:xfrm>
                  <a:off x="2896560" y="3524400"/>
                  <a:ext cx="6211800" cy="15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24"/>
                <p:cNvSpPr/>
                <p:nvPr/>
              </p:nvSpPr>
              <p:spPr>
                <a:xfrm>
                  <a:off x="2874600" y="3512160"/>
                  <a:ext cx="6255720" cy="153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Group 25"/>
              <p:cNvGrpSpPr/>
              <p:nvPr/>
            </p:nvGrpSpPr>
            <p:grpSpPr>
              <a:xfrm>
                <a:off x="10800" y="5073840"/>
                <a:ext cx="2863080" cy="1776600"/>
                <a:chOff x="10800" y="5073840"/>
                <a:chExt cx="2863080" cy="1776600"/>
              </a:xfrm>
            </p:grpSpPr>
            <p:sp>
              <p:nvSpPr>
                <p:cNvPr id="185" name="Rectangle 26"/>
                <p:cNvSpPr/>
                <p:nvPr/>
              </p:nvSpPr>
              <p:spPr>
                <a:xfrm>
                  <a:off x="32760" y="5086440"/>
                  <a:ext cx="2818440" cy="175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27"/>
                <p:cNvSpPr/>
                <p:nvPr/>
              </p:nvSpPr>
              <p:spPr>
                <a:xfrm>
                  <a:off x="10800" y="5073840"/>
                  <a:ext cx="2863080" cy="177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Group 28"/>
              <p:cNvGrpSpPr/>
              <p:nvPr/>
            </p:nvGrpSpPr>
            <p:grpSpPr>
              <a:xfrm>
                <a:off x="2874600" y="5073840"/>
                <a:ext cx="6255720" cy="1776600"/>
                <a:chOff x="2874600" y="5073840"/>
                <a:chExt cx="6255720" cy="1776600"/>
              </a:xfrm>
            </p:grpSpPr>
            <p:sp>
              <p:nvSpPr>
                <p:cNvPr id="188" name="Rectangle 29"/>
                <p:cNvSpPr/>
                <p:nvPr/>
              </p:nvSpPr>
              <p:spPr>
                <a:xfrm>
                  <a:off x="2896560" y="5086440"/>
                  <a:ext cx="6211800" cy="174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30"/>
                <p:cNvSpPr/>
                <p:nvPr/>
              </p:nvSpPr>
              <p:spPr>
                <a:xfrm>
                  <a:off x="2874600" y="5073840"/>
                  <a:ext cx="6255720" cy="177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" name="Rectangle 31"/>
            <p:cNvSpPr/>
            <p:nvPr/>
          </p:nvSpPr>
          <p:spPr>
            <a:xfrm>
              <a:off x="0" y="0"/>
              <a:ext cx="9143280" cy="6857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1" name="WordArt 32"/>
          <p:cNvSpPr txBox="1"/>
          <p:nvPr/>
        </p:nvSpPr>
        <p:spPr>
          <a:xfrm>
            <a:off x="152280" y="152280"/>
            <a:ext cx="8839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ABOR UNIONS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2" name="Text Box 33"/>
          <p:cNvSpPr/>
          <p:nvPr/>
        </p:nvSpPr>
        <p:spPr>
          <a:xfrm>
            <a:off x="2895480" y="37800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People refuse to buy a company's product until the company meets demands.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Text Box 34"/>
          <p:cNvSpPr/>
          <p:nvPr/>
        </p:nvSpPr>
        <p:spPr>
          <a:xfrm>
            <a:off x="0" y="3886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oycot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Text Box 35"/>
          <p:cNvSpPr/>
          <p:nvPr/>
        </p:nvSpPr>
        <p:spPr>
          <a:xfrm>
            <a:off x="0" y="2286000"/>
            <a:ext cx="281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Labor Strik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Text Box 36"/>
          <p:cNvSpPr/>
          <p:nvPr/>
        </p:nvSpPr>
        <p:spPr>
          <a:xfrm>
            <a:off x="2895480" y="1752480"/>
            <a:ext cx="624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unions' method for having their demands met. Workers stop working until the conditions are met. It is a very effective form of attack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Text Box 37"/>
          <p:cNvSpPr/>
          <p:nvPr/>
        </p:nvSpPr>
        <p:spPr>
          <a:xfrm>
            <a:off x="0" y="990720"/>
            <a:ext cx="281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Labor Un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2895480" y="89856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orkers who organize against their employers to seek better wages and working conditions for wage earner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Text Box 39"/>
          <p:cNvSpPr/>
          <p:nvPr/>
        </p:nvSpPr>
        <p:spPr>
          <a:xfrm>
            <a:off x="2895480" y="5227560"/>
            <a:ext cx="6248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ew immigrants who would replace strikers and work for less pay.  Often violence would erupt between strikers and scabs who were trying to cross picket lines to work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Text Box 40"/>
          <p:cNvSpPr/>
          <p:nvPr/>
        </p:nvSpPr>
        <p:spPr>
          <a:xfrm>
            <a:off x="0" y="5500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cab Work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AutoShape 41">
            <a:hlinkClick r:id="rId1" action="ppaction://hlinksldjump"/>
          </p:cNvPr>
          <p:cNvSpPr/>
          <p:nvPr/>
        </p:nvSpPr>
        <p:spPr>
          <a:xfrm>
            <a:off x="8610480" y="6553080"/>
            <a:ext cx="304920" cy="30492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202" name="Group 3"/>
            <p:cNvGrpSpPr/>
            <p:nvPr/>
          </p:nvGrpSpPr>
          <p:grpSpPr>
            <a:xfrm>
              <a:off x="10800" y="6120"/>
              <a:ext cx="9119880" cy="6844320"/>
              <a:chOff x="10800" y="6120"/>
              <a:chExt cx="9119880" cy="6844320"/>
            </a:xfrm>
          </p:grpSpPr>
          <p:grpSp>
            <p:nvGrpSpPr>
              <p:cNvPr id="203" name="Group 4"/>
              <p:cNvGrpSpPr/>
              <p:nvPr/>
            </p:nvGrpSpPr>
            <p:grpSpPr>
              <a:xfrm>
                <a:off x="10800" y="6120"/>
                <a:ext cx="9119880" cy="836640"/>
                <a:chOff x="10800" y="6120"/>
                <a:chExt cx="9119880" cy="836640"/>
              </a:xfrm>
            </p:grpSpPr>
            <p:sp>
              <p:nvSpPr>
                <p:cNvPr id="204" name="Rectangle 5"/>
                <p:cNvSpPr/>
                <p:nvPr/>
              </p:nvSpPr>
              <p:spPr>
                <a:xfrm>
                  <a:off x="32760" y="18360"/>
                  <a:ext cx="9075960" cy="81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6"/>
                <p:cNvSpPr/>
                <p:nvPr/>
              </p:nvSpPr>
              <p:spPr>
                <a:xfrm>
                  <a:off x="10800" y="6120"/>
                  <a:ext cx="9119880" cy="83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Group 7"/>
              <p:cNvGrpSpPr/>
              <p:nvPr/>
            </p:nvGrpSpPr>
            <p:grpSpPr>
              <a:xfrm>
                <a:off x="10800" y="868320"/>
                <a:ext cx="2863080" cy="1056600"/>
                <a:chOff x="10800" y="868320"/>
                <a:chExt cx="2863080" cy="1056600"/>
              </a:xfrm>
            </p:grpSpPr>
            <p:sp>
              <p:nvSpPr>
                <p:cNvPr id="207" name="Rectangle 8"/>
                <p:cNvSpPr/>
                <p:nvPr/>
              </p:nvSpPr>
              <p:spPr>
                <a:xfrm>
                  <a:off x="32760" y="880920"/>
                  <a:ext cx="2818440" cy="103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9"/>
                <p:cNvSpPr/>
                <p:nvPr/>
              </p:nvSpPr>
              <p:spPr>
                <a:xfrm>
                  <a:off x="10800" y="868320"/>
                  <a:ext cx="2863080" cy="105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Group 10"/>
              <p:cNvGrpSpPr/>
              <p:nvPr/>
            </p:nvGrpSpPr>
            <p:grpSpPr>
              <a:xfrm>
                <a:off x="2874600" y="868320"/>
                <a:ext cx="6255720" cy="1056600"/>
                <a:chOff x="2874600" y="868320"/>
                <a:chExt cx="6255720" cy="1056600"/>
              </a:xfrm>
            </p:grpSpPr>
            <p:sp>
              <p:nvSpPr>
                <p:cNvPr id="210" name="Rectangle 11"/>
                <p:cNvSpPr/>
                <p:nvPr/>
              </p:nvSpPr>
              <p:spPr>
                <a:xfrm>
                  <a:off x="2896560" y="880920"/>
                  <a:ext cx="6211800" cy="103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81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A working establishment where only people belonging to the union are hired. It was done by the unions to protect their workers from cheap labor.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 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2"/>
                <p:cNvSpPr/>
                <p:nvPr/>
              </p:nvSpPr>
              <p:spPr>
                <a:xfrm>
                  <a:off x="2874600" y="868320"/>
                  <a:ext cx="6255720" cy="105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Group 13"/>
              <p:cNvGrpSpPr/>
              <p:nvPr/>
            </p:nvGrpSpPr>
            <p:grpSpPr>
              <a:xfrm>
                <a:off x="10800" y="1949760"/>
                <a:ext cx="2863080" cy="1536480"/>
                <a:chOff x="10800" y="1949760"/>
                <a:chExt cx="2863080" cy="1536480"/>
              </a:xfrm>
            </p:grpSpPr>
            <p:sp>
              <p:nvSpPr>
                <p:cNvPr id="213" name="Rectangle 14"/>
                <p:cNvSpPr/>
                <p:nvPr/>
              </p:nvSpPr>
              <p:spPr>
                <a:xfrm>
                  <a:off x="32760" y="1962360"/>
                  <a:ext cx="2818440" cy="151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15"/>
                <p:cNvSpPr/>
                <p:nvPr/>
              </p:nvSpPr>
              <p:spPr>
                <a:xfrm>
                  <a:off x="10800" y="1949760"/>
                  <a:ext cx="2863080" cy="153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Group 16"/>
              <p:cNvGrpSpPr/>
              <p:nvPr/>
            </p:nvGrpSpPr>
            <p:grpSpPr>
              <a:xfrm>
                <a:off x="2874600" y="1949760"/>
                <a:ext cx="6255720" cy="1536480"/>
                <a:chOff x="2874600" y="1949760"/>
                <a:chExt cx="6255720" cy="1536480"/>
              </a:xfrm>
            </p:grpSpPr>
            <p:sp>
              <p:nvSpPr>
                <p:cNvPr id="216" name="Rectangle 17"/>
                <p:cNvSpPr/>
                <p:nvPr/>
              </p:nvSpPr>
              <p:spPr>
                <a:xfrm>
                  <a:off x="2896560" y="1962360"/>
                  <a:ext cx="6211800" cy="151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18"/>
                <p:cNvSpPr/>
                <p:nvPr/>
              </p:nvSpPr>
              <p:spPr>
                <a:xfrm>
                  <a:off x="2874600" y="1949760"/>
                  <a:ext cx="6255720" cy="153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Group 19"/>
              <p:cNvGrpSpPr/>
              <p:nvPr/>
            </p:nvGrpSpPr>
            <p:grpSpPr>
              <a:xfrm>
                <a:off x="10800" y="3512160"/>
                <a:ext cx="2863080" cy="1536120"/>
                <a:chOff x="10800" y="3512160"/>
                <a:chExt cx="2863080" cy="1536120"/>
              </a:xfrm>
            </p:grpSpPr>
            <p:sp>
              <p:nvSpPr>
                <p:cNvPr id="219" name="Rectangle 20"/>
                <p:cNvSpPr/>
                <p:nvPr/>
              </p:nvSpPr>
              <p:spPr>
                <a:xfrm>
                  <a:off x="32760" y="3524400"/>
                  <a:ext cx="2818440" cy="15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21"/>
                <p:cNvSpPr/>
                <p:nvPr/>
              </p:nvSpPr>
              <p:spPr>
                <a:xfrm>
                  <a:off x="10800" y="3512160"/>
                  <a:ext cx="2863080" cy="153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Group 22"/>
              <p:cNvGrpSpPr/>
              <p:nvPr/>
            </p:nvGrpSpPr>
            <p:grpSpPr>
              <a:xfrm>
                <a:off x="2874600" y="3512160"/>
                <a:ext cx="6255720" cy="1536120"/>
                <a:chOff x="2874600" y="3512160"/>
                <a:chExt cx="6255720" cy="1536120"/>
              </a:xfrm>
            </p:grpSpPr>
            <p:sp>
              <p:nvSpPr>
                <p:cNvPr id="222" name="Rectangle 23"/>
                <p:cNvSpPr/>
                <p:nvPr/>
              </p:nvSpPr>
              <p:spPr>
                <a:xfrm>
                  <a:off x="2896560" y="3524400"/>
                  <a:ext cx="6211800" cy="15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24"/>
                <p:cNvSpPr/>
                <p:nvPr/>
              </p:nvSpPr>
              <p:spPr>
                <a:xfrm>
                  <a:off x="2874600" y="3512160"/>
                  <a:ext cx="6255720" cy="153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Group 25"/>
              <p:cNvGrpSpPr/>
              <p:nvPr/>
            </p:nvGrpSpPr>
            <p:grpSpPr>
              <a:xfrm>
                <a:off x="10800" y="5073840"/>
                <a:ext cx="2863080" cy="1776600"/>
                <a:chOff x="10800" y="5073840"/>
                <a:chExt cx="2863080" cy="1776600"/>
              </a:xfrm>
            </p:grpSpPr>
            <p:sp>
              <p:nvSpPr>
                <p:cNvPr id="225" name="Rectangle 26"/>
                <p:cNvSpPr/>
                <p:nvPr/>
              </p:nvSpPr>
              <p:spPr>
                <a:xfrm>
                  <a:off x="32760" y="5086440"/>
                  <a:ext cx="2818440" cy="175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27"/>
                <p:cNvSpPr/>
                <p:nvPr/>
              </p:nvSpPr>
              <p:spPr>
                <a:xfrm>
                  <a:off x="10800" y="5073840"/>
                  <a:ext cx="2863080" cy="177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Group 28"/>
              <p:cNvGrpSpPr/>
              <p:nvPr/>
            </p:nvGrpSpPr>
            <p:grpSpPr>
              <a:xfrm>
                <a:off x="2874600" y="5073840"/>
                <a:ext cx="6255720" cy="1776600"/>
                <a:chOff x="2874600" y="5073840"/>
                <a:chExt cx="6255720" cy="1776600"/>
              </a:xfrm>
            </p:grpSpPr>
            <p:sp>
              <p:nvSpPr>
                <p:cNvPr id="228" name="Rectangle 29"/>
                <p:cNvSpPr/>
                <p:nvPr/>
              </p:nvSpPr>
              <p:spPr>
                <a:xfrm>
                  <a:off x="2896560" y="5086440"/>
                  <a:ext cx="6211800" cy="174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30"/>
                <p:cNvSpPr/>
                <p:nvPr/>
              </p:nvSpPr>
              <p:spPr>
                <a:xfrm>
                  <a:off x="2874600" y="5073840"/>
                  <a:ext cx="6255720" cy="177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0" name="Rectangle 31"/>
            <p:cNvSpPr/>
            <p:nvPr/>
          </p:nvSpPr>
          <p:spPr>
            <a:xfrm>
              <a:off x="0" y="0"/>
              <a:ext cx="9143280" cy="6857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31" name="WordArt 32"/>
          <p:cNvSpPr txBox="1"/>
          <p:nvPr/>
        </p:nvSpPr>
        <p:spPr>
          <a:xfrm>
            <a:off x="152280" y="152280"/>
            <a:ext cx="8839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ABOR UNIONS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" name="Text Box 33"/>
          <p:cNvSpPr/>
          <p:nvPr/>
        </p:nvSpPr>
        <p:spPr>
          <a:xfrm>
            <a:off x="0" y="2286000"/>
            <a:ext cx="2819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lack List or Black Ball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Text Box 34"/>
          <p:cNvSpPr/>
          <p:nvPr/>
        </p:nvSpPr>
        <p:spPr>
          <a:xfrm>
            <a:off x="2895480" y="1782720"/>
            <a:ext cx="624852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List of people disliked by business owners because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Arial Black"/>
              </a:rPr>
              <a:t>they were leaders in the Union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.  Often would loose their jobs, beaten up or even kille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AutoShape 35">
            <a:hlinkClick r:id="rId1" action="ppaction://hlinksldjump"/>
          </p:cNvPr>
          <p:cNvSpPr/>
          <p:nvPr/>
        </p:nvSpPr>
        <p:spPr>
          <a:xfrm>
            <a:off x="8610480" y="6400800"/>
            <a:ext cx="304920" cy="30492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2971800" y="3505320"/>
            <a:ext cx="6172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ype of negotiation between an employer and labor union where they sit down face to face and discuss better wages, et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0" y="3886200"/>
            <a:ext cx="2819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ollective Bargain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0" y="1066680"/>
            <a:ext cx="281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losed Sho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0" y="533412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Yellow Dog </a:t>
            </a:r>
            <a:br>
              <a:rPr sz="2800"/>
            </a:br>
            <a:r>
              <a:rPr b="1" i="1" lang="en-US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Contrac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Text Box 40"/>
          <p:cNvSpPr/>
          <p:nvPr/>
        </p:nvSpPr>
        <p:spPr>
          <a:xfrm>
            <a:off x="2895480" y="5257800"/>
            <a:ext cx="60199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A written contract between employers and employees in which the employees sign an agreement that they will not join a union while working for the company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241" name="Group 3"/>
            <p:cNvGrpSpPr/>
            <p:nvPr/>
          </p:nvGrpSpPr>
          <p:grpSpPr>
            <a:xfrm>
              <a:off x="10800" y="6120"/>
              <a:ext cx="9119880" cy="6844320"/>
              <a:chOff x="10800" y="6120"/>
              <a:chExt cx="9119880" cy="6844320"/>
            </a:xfrm>
          </p:grpSpPr>
          <p:grpSp>
            <p:nvGrpSpPr>
              <p:cNvPr id="242" name="Group 4"/>
              <p:cNvGrpSpPr/>
              <p:nvPr/>
            </p:nvGrpSpPr>
            <p:grpSpPr>
              <a:xfrm>
                <a:off x="10800" y="6120"/>
                <a:ext cx="9119880" cy="836640"/>
                <a:chOff x="10800" y="6120"/>
                <a:chExt cx="9119880" cy="836640"/>
              </a:xfrm>
            </p:grpSpPr>
            <p:sp>
              <p:nvSpPr>
                <p:cNvPr id="243" name="Rectangle 5"/>
                <p:cNvSpPr/>
                <p:nvPr/>
              </p:nvSpPr>
              <p:spPr>
                <a:xfrm>
                  <a:off x="32760" y="18360"/>
                  <a:ext cx="9075960" cy="81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6"/>
                <p:cNvSpPr/>
                <p:nvPr/>
              </p:nvSpPr>
              <p:spPr>
                <a:xfrm>
                  <a:off x="10800" y="6120"/>
                  <a:ext cx="9119880" cy="83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7"/>
              <p:cNvGrpSpPr/>
              <p:nvPr/>
            </p:nvGrpSpPr>
            <p:grpSpPr>
              <a:xfrm>
                <a:off x="10800" y="868320"/>
                <a:ext cx="2863080" cy="1056600"/>
                <a:chOff x="10800" y="868320"/>
                <a:chExt cx="2863080" cy="1056600"/>
              </a:xfrm>
            </p:grpSpPr>
            <p:sp>
              <p:nvSpPr>
                <p:cNvPr id="246" name="Rectangle 8"/>
                <p:cNvSpPr/>
                <p:nvPr/>
              </p:nvSpPr>
              <p:spPr>
                <a:xfrm>
                  <a:off x="32760" y="880920"/>
                  <a:ext cx="2818440" cy="103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Lock Out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9"/>
                <p:cNvSpPr/>
                <p:nvPr/>
              </p:nvSpPr>
              <p:spPr>
                <a:xfrm>
                  <a:off x="10800" y="868320"/>
                  <a:ext cx="2863080" cy="105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10"/>
              <p:cNvGrpSpPr/>
              <p:nvPr/>
            </p:nvGrpSpPr>
            <p:grpSpPr>
              <a:xfrm>
                <a:off x="2874600" y="868320"/>
                <a:ext cx="6255720" cy="1056600"/>
                <a:chOff x="2874600" y="868320"/>
                <a:chExt cx="6255720" cy="1056600"/>
              </a:xfrm>
            </p:grpSpPr>
            <p:sp>
              <p:nvSpPr>
                <p:cNvPr id="249" name="Rectangle 11"/>
                <p:cNvSpPr/>
                <p:nvPr/>
              </p:nvSpPr>
              <p:spPr>
                <a:xfrm>
                  <a:off x="2896560" y="880920"/>
                  <a:ext cx="6211800" cy="103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63000"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2000"/>
                  </a:br>
                  <a:br>
                    <a:rPr sz="2000"/>
                  </a:br>
                  <a:br>
                    <a:rPr sz="2000"/>
                  </a:br>
                  <a:r>
                    <a:rPr b="1" lang="en-US" sz="2400" spc="-1" strike="noStrike">
                      <a:solidFill>
                        <a:srgbClr val="003366"/>
                      </a:solidFill>
                      <a:latin typeface="Tahoma"/>
                      <a:ea typeface="Times New Roman"/>
                    </a:rPr>
                    <a:t>Owner of industry would “lock out” workers who were trying to form a union and replace them with “scabs”.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12"/>
                <p:cNvSpPr/>
                <p:nvPr/>
              </p:nvSpPr>
              <p:spPr>
                <a:xfrm>
                  <a:off x="2874600" y="868320"/>
                  <a:ext cx="6255720" cy="105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Group 13"/>
              <p:cNvGrpSpPr/>
              <p:nvPr/>
            </p:nvGrpSpPr>
            <p:grpSpPr>
              <a:xfrm>
                <a:off x="10800" y="1949760"/>
                <a:ext cx="2863080" cy="1536480"/>
                <a:chOff x="10800" y="1949760"/>
                <a:chExt cx="2863080" cy="1536480"/>
              </a:xfrm>
            </p:grpSpPr>
            <p:sp>
              <p:nvSpPr>
                <p:cNvPr id="252" name="Rectangle 14"/>
                <p:cNvSpPr/>
                <p:nvPr/>
              </p:nvSpPr>
              <p:spPr>
                <a:xfrm>
                  <a:off x="32760" y="1962360"/>
                  <a:ext cx="2818440" cy="151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Rectangle 15"/>
                <p:cNvSpPr/>
                <p:nvPr/>
              </p:nvSpPr>
              <p:spPr>
                <a:xfrm>
                  <a:off x="10800" y="1949760"/>
                  <a:ext cx="2863080" cy="153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16"/>
              <p:cNvGrpSpPr/>
              <p:nvPr/>
            </p:nvGrpSpPr>
            <p:grpSpPr>
              <a:xfrm>
                <a:off x="2874600" y="1949760"/>
                <a:ext cx="6255720" cy="1536480"/>
                <a:chOff x="2874600" y="1949760"/>
                <a:chExt cx="6255720" cy="1536480"/>
              </a:xfrm>
            </p:grpSpPr>
            <p:sp>
              <p:nvSpPr>
                <p:cNvPr id="255" name="Rectangle 17"/>
                <p:cNvSpPr/>
                <p:nvPr/>
              </p:nvSpPr>
              <p:spPr>
                <a:xfrm>
                  <a:off x="2896560" y="1962360"/>
                  <a:ext cx="6211800" cy="151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18"/>
                <p:cNvSpPr/>
                <p:nvPr/>
              </p:nvSpPr>
              <p:spPr>
                <a:xfrm>
                  <a:off x="2874600" y="1949760"/>
                  <a:ext cx="6255720" cy="153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19"/>
              <p:cNvGrpSpPr/>
              <p:nvPr/>
            </p:nvGrpSpPr>
            <p:grpSpPr>
              <a:xfrm>
                <a:off x="10800" y="3512160"/>
                <a:ext cx="2863080" cy="1536120"/>
                <a:chOff x="10800" y="3512160"/>
                <a:chExt cx="2863080" cy="1536120"/>
              </a:xfrm>
            </p:grpSpPr>
            <p:sp>
              <p:nvSpPr>
                <p:cNvPr id="258" name="Rectangle 20"/>
                <p:cNvSpPr/>
                <p:nvPr/>
              </p:nvSpPr>
              <p:spPr>
                <a:xfrm>
                  <a:off x="32760" y="3524400"/>
                  <a:ext cx="2818440" cy="15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21"/>
                <p:cNvSpPr/>
                <p:nvPr/>
              </p:nvSpPr>
              <p:spPr>
                <a:xfrm>
                  <a:off x="10800" y="3512160"/>
                  <a:ext cx="2863080" cy="153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Group 22"/>
              <p:cNvGrpSpPr/>
              <p:nvPr/>
            </p:nvGrpSpPr>
            <p:grpSpPr>
              <a:xfrm>
                <a:off x="2874600" y="3512160"/>
                <a:ext cx="6255720" cy="1536120"/>
                <a:chOff x="2874600" y="3512160"/>
                <a:chExt cx="6255720" cy="1536120"/>
              </a:xfrm>
            </p:grpSpPr>
            <p:sp>
              <p:nvSpPr>
                <p:cNvPr id="261" name="Rectangle 23"/>
                <p:cNvSpPr/>
                <p:nvPr/>
              </p:nvSpPr>
              <p:spPr>
                <a:xfrm>
                  <a:off x="2896560" y="3524400"/>
                  <a:ext cx="6211800" cy="15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Rectangle 24"/>
                <p:cNvSpPr/>
                <p:nvPr/>
              </p:nvSpPr>
              <p:spPr>
                <a:xfrm>
                  <a:off x="2874600" y="3512160"/>
                  <a:ext cx="6255720" cy="153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25"/>
              <p:cNvGrpSpPr/>
              <p:nvPr/>
            </p:nvGrpSpPr>
            <p:grpSpPr>
              <a:xfrm>
                <a:off x="10800" y="5073840"/>
                <a:ext cx="2863080" cy="1776600"/>
                <a:chOff x="10800" y="5073840"/>
                <a:chExt cx="2863080" cy="1776600"/>
              </a:xfrm>
            </p:grpSpPr>
            <p:sp>
              <p:nvSpPr>
                <p:cNvPr id="264" name="Rectangle 26"/>
                <p:cNvSpPr/>
                <p:nvPr/>
              </p:nvSpPr>
              <p:spPr>
                <a:xfrm>
                  <a:off x="32760" y="5086440"/>
                  <a:ext cx="2818440" cy="175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Rectangle 27"/>
                <p:cNvSpPr/>
                <p:nvPr/>
              </p:nvSpPr>
              <p:spPr>
                <a:xfrm>
                  <a:off x="10800" y="5073840"/>
                  <a:ext cx="2863080" cy="177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28"/>
              <p:cNvGrpSpPr/>
              <p:nvPr/>
            </p:nvGrpSpPr>
            <p:grpSpPr>
              <a:xfrm>
                <a:off x="2874600" y="5073840"/>
                <a:ext cx="6255720" cy="1776600"/>
                <a:chOff x="2874600" y="5073840"/>
                <a:chExt cx="6255720" cy="1776600"/>
              </a:xfrm>
            </p:grpSpPr>
            <p:sp>
              <p:nvSpPr>
                <p:cNvPr id="267" name="Rectangle 29"/>
                <p:cNvSpPr/>
                <p:nvPr/>
              </p:nvSpPr>
              <p:spPr>
                <a:xfrm>
                  <a:off x="2896560" y="5086440"/>
                  <a:ext cx="6211800" cy="174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Rectangle 30"/>
                <p:cNvSpPr/>
                <p:nvPr/>
              </p:nvSpPr>
              <p:spPr>
                <a:xfrm>
                  <a:off x="2874600" y="5073840"/>
                  <a:ext cx="6255720" cy="1776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9" name="Rectangle 31"/>
            <p:cNvSpPr/>
            <p:nvPr/>
          </p:nvSpPr>
          <p:spPr>
            <a:xfrm>
              <a:off x="0" y="0"/>
              <a:ext cx="9143280" cy="6857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70" name="WordArt 32"/>
          <p:cNvSpPr txBox="1"/>
          <p:nvPr/>
        </p:nvSpPr>
        <p:spPr>
          <a:xfrm>
            <a:off x="152280" y="152280"/>
            <a:ext cx="8839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ABOR UNIONS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1" name="Text Box 33"/>
          <p:cNvSpPr/>
          <p:nvPr/>
        </p:nvSpPr>
        <p:spPr>
          <a:xfrm>
            <a:off x="2895480" y="3657600"/>
            <a:ext cx="6248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Text Box 34"/>
          <p:cNvSpPr/>
          <p:nvPr/>
        </p:nvSpPr>
        <p:spPr>
          <a:xfrm>
            <a:off x="2819520" y="8380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Text Box 35"/>
          <p:cNvSpPr/>
          <p:nvPr/>
        </p:nvSpPr>
        <p:spPr>
          <a:xfrm>
            <a:off x="0" y="2438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Coopera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Text Box 36"/>
          <p:cNvSpPr/>
          <p:nvPr/>
        </p:nvSpPr>
        <p:spPr>
          <a:xfrm>
            <a:off x="2895480" y="2133720"/>
            <a:ext cx="6248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ustry or business organization owned by and operated for the benefit of those using its services—non-prof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5:53:11Z</dcterms:created>
  <dc:creator>Sacerdote, Kevin R.</dc:creator>
  <dc:description/>
  <dc:language>en-US</dc:language>
  <cp:lastModifiedBy>Sacerdote, Kevin R.</cp:lastModifiedBy>
  <dcterms:modified xsi:type="dcterms:W3CDTF">2016-09-20T16:16:12Z</dcterms:modified>
  <cp:revision>9</cp:revision>
  <dc:subject/>
  <dc:title>The Industrial Revolution</dc:title>
</cp:coreProperties>
</file>